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3015-F265-4BE7-A99D-439A23FF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F118-D778-4626-866E-B13E8F8E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9B6-BDE3-46D4-BB9E-552FB34F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988-BAE7-439B-8626-30B201A2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8FC0-8A3B-494B-952E-86BFA430A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A83F-95F8-44DA-8D4D-F77BE275C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9C9-CFBF-4EB5-A80F-B7C1002B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AB06-FCA9-476A-BADC-D51DCF55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4BE-5B45-49C5-BA77-9F396723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173-84E0-4A35-BB63-869C0D02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005-AEAA-4A3F-96AD-A1D6CCD3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D76-090B-46FA-86B5-FED1CF89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1DE4-1832-4ED8-9F38-2FE5670F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FFA-32AC-4DE6-BB51-845008DE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EE2-33AF-4135-8106-497AFF4D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DE2A-97C6-47B3-8274-E11A1D62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68FE-D5FF-437B-84EE-41099580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49D8-74EE-4D2A-B10F-6AE64A6B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4BC-8368-4BF2-A5D4-909DAC4B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B2A-073C-4F4B-82DA-F5089E23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56E-3AE8-45E8-95EE-2B61542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A6C5-4831-4D63-AAE1-F519BB7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DB5A-EEE5-481E-A000-52C951A9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8AE-52F1-47CC-8E83-A49D01B6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13D6-6F90-41B2-A2DA-3FF348FB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59394-33E9-4194-A7CB-2FBA0B4B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42675-D83F-42D6-A1CD-F432FE83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ECECE-DB98-47A6-895B-68B935BE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0DAC9-17BD-43B9-95A7-906B5209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4915F-7CC9-43C5-8045-4C1BCE9F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50C-CE4E-4C34-B9EE-B390B3B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C315A-CC10-4260-ABF1-6583F8F6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68117-DBA8-4835-8F72-22AE8E58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85125-E48A-43B9-8EC6-8B6681A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0F552-BB73-4145-AC6B-0A841932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D7D6C-17EE-4D02-A9D9-FD64EBE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199DD-D886-4695-BEBB-CC3753D5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E12B5-BDFF-46AB-8A5D-9A435D84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45096-E3F2-44A8-94FF-05162EFC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7B70-71B3-4C17-9A2C-A505FB1C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1AAA-0691-41ED-A84A-4B3584AE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376-20AC-40C3-8D74-A9810FF4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1B4F-4BD5-4F80-8474-A5CD2799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2AAE-CAE1-4919-A2C0-232724A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5431D-8D72-4D3A-8AD5-11525407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1793F-D0C0-4E52-9E13-F73B460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58A07-85FF-42D4-97AF-41104A5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4A7A-C027-45E7-A20F-D5809B0B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FD08-5002-45F4-91E4-358761D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AEE7-2558-4F91-9092-DFD6D3EB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D140-6517-4726-AAB3-7D6358E5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540C4-F097-4B62-B54F-91D7263E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28F-AEC2-402A-8171-3ED56E1E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F7F84-DD46-4B64-BC7C-28BB7E3A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D14AD-B4E0-4312-AE19-034952E2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41300-89D4-4856-A478-488A2AE1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997A3-575B-47F1-99EC-FE1B5DC4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E42C0-463D-4D6D-8D97-48630001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BCC11-EDEE-46F2-BE62-D5BAD3FE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FA8AD-572E-4B0C-A4C7-1BFC4AB5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BEF36-A5D9-4C53-89DE-73C2E44E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40B16-0168-41F0-ADB8-815F053D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1A28D-F889-45ED-9375-D25110D1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AF4-3CC9-450E-94A2-F2D7B789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2E0F1-EEF2-4BA1-BDEB-72243152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CFB-B7F1-4518-B5AD-43E173E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547-20CF-4BAF-A884-285171BA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846-34C1-4E73-B149-EFFA4D9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0DC6-E74F-45F1-B442-3B60B1041D0A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388c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D4FE-2D7B-4443-984A-F40BD7C35B63}" type="slidenum">
              <a:rPr b="0" lang="en-US" sz="1200" spc="-1" strike="noStrike">
                <a:solidFill>
                  <a:srgbClr val="ff388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D10-0339-4E71-B58F-77D4F1991404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C2F0-79BC-474B-96BD-016A5189148D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974-E4B6-40A7-B9DF-167E46ADED6B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88c"/>
                </a:solidFill>
                <a:uFillTx/>
                <a:latin typeface="Century Gothic"/>
              </a:rPr>
              <a:t>DO NOW!</a:t>
            </a:r>
            <a:endParaRPr b="0" lang="en-US" sz="6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09480" y="1752120"/>
            <a:ext cx="792504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1125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5bd3"/>
                </a:solidFill>
                <a:latin typeface="Century Gothic"/>
              </a:rPr>
              <a:t>Which part of C.A.S.T. do you find the most challenging to complete in your paragraph writing?  Why?</a:t>
            </a:r>
            <a:endParaRPr b="0" lang="en-US" sz="45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27" name="Picture 2" descr="http://generic.pixmac.com/4/image-84477422.jpg"/>
          <p:cNvPicPr/>
          <p:nvPr/>
        </p:nvPicPr>
        <p:blipFill>
          <a:blip r:embed="rId1"/>
          <a:srcRect l="0" t="13670" r="0" b="13968"/>
          <a:stretch/>
        </p:blipFill>
        <p:spPr>
          <a:xfrm>
            <a:off x="990720" y="464832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ff388c"/>
                </a:solidFill>
                <a:uFillTx/>
                <a:latin typeface="Century Gothic"/>
              </a:rPr>
              <a:t>Informal Writing – What Is Wrong Here?</a:t>
            </a:r>
            <a:endParaRPr b="0" lang="en-US" sz="33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bd3"/>
                </a:solidFill>
                <a:latin typeface="Century Gothic"/>
              </a:rPr>
              <a:t>You know that book we read? Well, I think it’s a sweet example of dystopia. There is a lot of stuff the people do that isn’t perfect at all.  They all have to act the same and stuff. But hey, the main character Jonas rebels against everyone, he’s a cool guy.  In my essay I am going to explain this more.  I hope you are going to agree with me. </a:t>
            </a:r>
            <a:r>
              <a:rPr b="0" lang="en-US" sz="2700" spc="-1" strike="noStrike">
                <a:solidFill>
                  <a:srgbClr val="666666"/>
                </a:solidFill>
                <a:latin typeface="Century Gothic"/>
              </a:rPr>
              <a:t> </a:t>
            </a:r>
            <a:endParaRPr b="0" lang="en-US" sz="2700" spc="-1" strike="noStrike">
              <a:solidFill>
                <a:srgbClr val="666666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388c"/>
                </a:solidFill>
                <a:uFillTx/>
                <a:latin typeface="Century Gothic"/>
              </a:rPr>
              <a:t>Informal Writing – How Could We Make This Formal?</a:t>
            </a:r>
            <a:endParaRPr b="0" lang="en-US" sz="35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5bd3"/>
                </a:solidFill>
                <a:latin typeface="Century Gothic"/>
              </a:rPr>
              <a:t>You know that book we read? Well, I think it’s a sweet example of dystopia. There is a lot of stuff the people do that isn’t perfect at all.  They all have to act the same and stuff. But hey, the main character Jonas rebels against everyone, he’s a cool guy.  In my essay I am going to explain this more.  I hope you are going to agree with me. </a:t>
            </a:r>
            <a:r>
              <a:rPr b="0" lang="en-US" sz="2500" spc="-1" strike="noStrike">
                <a:solidFill>
                  <a:srgbClr val="666666"/>
                </a:solidFill>
                <a:latin typeface="Century Gothic"/>
              </a:rPr>
              <a:t> </a:t>
            </a:r>
            <a:endParaRPr b="0" lang="en-US" sz="2500" spc="-1" strike="noStrike">
              <a:solidFill>
                <a:srgbClr val="666666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ff388c"/>
                </a:solidFill>
                <a:uFillTx/>
                <a:latin typeface="Century Gothic"/>
              </a:rPr>
              <a:t>On Your Own…</a:t>
            </a:r>
            <a:endParaRPr b="0" lang="en-US" sz="55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5998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51"/>
              </a:spcBef>
              <a:buClr>
                <a:srgbClr val="ff388c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Write 4 Sentences about your favorite hobby – Informally 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582480" indent="-514080">
              <a:spcBef>
                <a:spcPts val="751"/>
              </a:spcBef>
              <a:buClr>
                <a:srgbClr val="ff388c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Rewrite these sentences – Formally 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582480" indent="-514080">
              <a:spcBef>
                <a:spcPts val="751"/>
              </a:spcBef>
              <a:buClr>
                <a:srgbClr val="ff388c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Turn In Sentences then Continue Essay Outline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504720" y="4952880"/>
            <a:ext cx="8229600" cy="1600200"/>
            <a:chOff x="504720" y="4952880"/>
            <a:chExt cx="8229600" cy="1600200"/>
          </a:xfrm>
        </p:grpSpPr>
        <p:pic>
          <p:nvPicPr>
            <p:cNvPr id="465" name="Picture 2" descr="http://t3.gstatic.com/images?q=tbn:ANd9GcSCuCN8qNdv6kpQCwM1E5hQGBL-K8TA9v0zeCzwSBnmV4s6Ed9y"/>
            <p:cNvPicPr/>
            <p:nvPr/>
          </p:nvPicPr>
          <p:blipFill>
            <a:blip r:embed="rId1"/>
            <a:srcRect l="0" t="0" r="0" b="43288"/>
            <a:stretch/>
          </p:blipFill>
          <p:spPr>
            <a:xfrm>
              <a:off x="504720" y="4952880"/>
              <a:ext cx="30481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" descr="http://t3.gstatic.com/images?q=tbn:ANd9GcSCuCN8qNdv6kpQCwM1E5hQGBL-K8TA9v0zeCzwSBnmV4s6Ed9y"/>
            <p:cNvPicPr/>
            <p:nvPr/>
          </p:nvPicPr>
          <p:blipFill>
            <a:blip r:embed="rId2"/>
            <a:srcRect l="0" t="0" r="0" b="43288"/>
            <a:stretch/>
          </p:blipFill>
          <p:spPr>
            <a:xfrm>
              <a:off x="3552840" y="4952880"/>
              <a:ext cx="30481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" descr="http://t3.gstatic.com/images?q=tbn:ANd9GcSCuCN8qNdv6kpQCwM1E5hQGBL-K8TA9v0zeCzwSBnmV4s6Ed9y"/>
            <p:cNvPicPr/>
            <p:nvPr/>
          </p:nvPicPr>
          <p:blipFill>
            <a:blip r:embed="rId3"/>
            <a:srcRect l="0" t="0" r="0" b="43288"/>
            <a:stretch/>
          </p:blipFill>
          <p:spPr>
            <a:xfrm>
              <a:off x="5686200" y="4952880"/>
              <a:ext cx="304812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ff388c"/>
                </a:solidFill>
                <a:uFillTx/>
                <a:latin typeface="Century Gothic"/>
              </a:rPr>
              <a:t>On Your Own…</a:t>
            </a:r>
            <a:endParaRPr b="0" lang="en-US" sz="55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5998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Continue writing the body paragraphs for your essay.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01680" indent="-24012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Remember, you need to reference at least one outside source in each paragraph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01680" indent="-24012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You need to have four body paragraphs </a:t>
            </a:r>
            <a:r>
              <a:rPr b="1" i="1" lang="en-US" sz="3000" spc="-1" strike="noStrike" u="sng">
                <a:solidFill>
                  <a:srgbClr val="e40059"/>
                </a:solidFill>
                <a:uFillTx/>
                <a:latin typeface="Century Gothic"/>
              </a:rPr>
              <a:t>(for a total of 6)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504720" y="5943600"/>
            <a:ext cx="8229600" cy="609480"/>
            <a:chOff x="504720" y="5943600"/>
            <a:chExt cx="8229600" cy="609480"/>
          </a:xfrm>
        </p:grpSpPr>
        <p:pic>
          <p:nvPicPr>
            <p:cNvPr id="471" name="Picture 2" descr="http://t3.gstatic.com/images?q=tbn:ANd9GcSCuCN8qNdv6kpQCwM1E5hQGBL-K8TA9v0zeCzwSBnmV4s6Ed9y"/>
            <p:cNvPicPr/>
            <p:nvPr/>
          </p:nvPicPr>
          <p:blipFill>
            <a:blip r:embed="rId1"/>
            <a:srcRect l="0" t="0" r="0" b="43288"/>
            <a:stretch/>
          </p:blipFill>
          <p:spPr>
            <a:xfrm>
              <a:off x="504720" y="5943600"/>
              <a:ext cx="30481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2" descr="http://t3.gstatic.com/images?q=tbn:ANd9GcSCuCN8qNdv6kpQCwM1E5hQGBL-K8TA9v0zeCzwSBnmV4s6Ed9y"/>
            <p:cNvPicPr/>
            <p:nvPr/>
          </p:nvPicPr>
          <p:blipFill>
            <a:blip r:embed="rId2"/>
            <a:srcRect l="0" t="0" r="0" b="43288"/>
            <a:stretch/>
          </p:blipFill>
          <p:spPr>
            <a:xfrm>
              <a:off x="3552840" y="5943600"/>
              <a:ext cx="30481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2" descr="http://t3.gstatic.com/images?q=tbn:ANd9GcSCuCN8qNdv6kpQCwM1E5hQGBL-K8TA9v0zeCzwSBnmV4s6Ed9y"/>
            <p:cNvPicPr/>
            <p:nvPr/>
          </p:nvPicPr>
          <p:blipFill>
            <a:blip r:embed="rId3"/>
            <a:srcRect l="0" t="0" r="0" b="43288"/>
            <a:stretch/>
          </p:blipFill>
          <p:spPr>
            <a:xfrm>
              <a:off x="5686200" y="5943600"/>
              <a:ext cx="30481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88c"/>
                </a:solidFill>
                <a:uFillTx/>
                <a:latin typeface="Century Gothic"/>
              </a:rPr>
              <a:t>INDEPENDENT READING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09480" y="1218960"/>
            <a:ext cx="79250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The Giver – Chapter 18 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Complete At Least 3 Double Entry Journals – Turn in at the end of reading tim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30" name="Content Placeholder 3" descr=""/>
          <p:cNvPicPr/>
          <p:nvPr/>
        </p:nvPicPr>
        <p:blipFill>
          <a:blip r:embed="rId1"/>
          <a:srcRect l="0" t="12731" r="0" b="12731"/>
          <a:stretch/>
        </p:blipFill>
        <p:spPr>
          <a:xfrm>
            <a:off x="457200" y="320040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88c"/>
                </a:solidFill>
                <a:latin typeface="Century Gothic"/>
              </a:rPr>
              <a:t>Formal Writing Rules</a:t>
            </a:r>
            <a:endParaRPr b="0" lang="en-US" sz="36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242"/>
                </a:solidFill>
                <a:latin typeface="Century Gothic"/>
              </a:rPr>
              <a:t>Live them, love them, learn them, USE THEM!</a:t>
            </a:r>
            <a:endParaRPr b="0" lang="en-US" sz="1800" spc="-1" strike="noStrike">
              <a:solidFill>
                <a:srgbClr val="666666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88c"/>
                </a:solidFill>
                <a:uFillTx/>
                <a:latin typeface="Century Gothic"/>
              </a:rPr>
              <a:t>Formal Writing</a:t>
            </a:r>
            <a:r>
              <a:rPr b="1" lang="en-US" sz="6000" spc="-1" strike="noStrike" u="sng">
                <a:solidFill>
                  <a:srgbClr val="ff388c"/>
                </a:solidFill>
                <a:uFillTx/>
                <a:latin typeface="Century Gothic"/>
              </a:rPr>
              <a:t>	</a:t>
            </a:r>
            <a:endParaRPr b="0" lang="en-US" sz="6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9480" y="1676520"/>
            <a:ext cx="79250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8007f"/>
                </a:solidFill>
                <a:latin typeface="Century Gothic"/>
              </a:rPr>
              <a:t>Each main point needs to be introduced, elaborated and concluded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Types of formal writing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Essays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Research essays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35" name="Picture 10" descr="http://www.uni-koblenz.de/~edmartin/pic/writing.png"/>
          <p:cNvPicPr/>
          <p:nvPr/>
        </p:nvPicPr>
        <p:blipFill>
          <a:blip r:embed="rId1"/>
          <a:stretch/>
        </p:blipFill>
        <p:spPr>
          <a:xfrm>
            <a:off x="5929200" y="2743200"/>
            <a:ext cx="1596960" cy="1293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2" descr="http://www.clker.com/cliparts/B/5/K/q/t/3/students-hi.png"/>
          <p:cNvPicPr/>
          <p:nvPr/>
        </p:nvPicPr>
        <p:blipFill>
          <a:blip r:embed="rId2"/>
          <a:stretch/>
        </p:blipFill>
        <p:spPr>
          <a:xfrm>
            <a:off x="5181480" y="4224240"/>
            <a:ext cx="3353040" cy="22528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Rules of Formal Writing 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Do Not Use PRONOUNS: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I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W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M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Us</a:t>
            </a:r>
            <a:br>
              <a:rPr sz="3000"/>
            </a:b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Only Write in THIRD PERSON </a:t>
            </a:r>
            <a:br>
              <a:rPr sz="3000"/>
            </a:br>
            <a:r>
              <a:rPr b="1" i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(He, It, She, They)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39" name="Picture 10" descr="http://languagearts.pppst.com/m_pronouns.gif"/>
          <p:cNvPicPr/>
          <p:nvPr/>
        </p:nvPicPr>
        <p:blipFill>
          <a:blip r:embed="rId1"/>
          <a:stretch/>
        </p:blipFill>
        <p:spPr>
          <a:xfrm>
            <a:off x="2514600" y="2209680"/>
            <a:ext cx="3733920" cy="2651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http://www.adams.k12.mi.us/wp-content/uploads/2010/10/free-graduation-clipart-6.jpg"/>
          <p:cNvPicPr/>
          <p:nvPr/>
        </p:nvPicPr>
        <p:blipFill>
          <a:blip r:embed="rId2"/>
          <a:stretch/>
        </p:blipFill>
        <p:spPr>
          <a:xfrm>
            <a:off x="6019920" y="1523880"/>
            <a:ext cx="2238120" cy="23338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More With Pronouns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876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8007f"/>
                </a:solidFill>
                <a:latin typeface="Century Gothic"/>
              </a:rPr>
              <a:t>Keep your emotions out of it!</a:t>
            </a:r>
            <a:br>
              <a:rPr sz="3500"/>
            </a:br>
            <a:r>
              <a:rPr b="1" lang="en-US" sz="3500" spc="-1" strike="noStrike">
                <a:solidFill>
                  <a:srgbClr val="68007f"/>
                </a:solidFill>
                <a:latin typeface="Century Gothic"/>
              </a:rPr>
              <a:t> </a:t>
            </a: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  <a:p>
            <a:pPr marL="325800" indent="-259560">
              <a:lnSpc>
                <a:spcPct val="90000"/>
              </a:lnSpc>
              <a:spcBef>
                <a:spcPts val="876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8007f"/>
                </a:solidFill>
                <a:latin typeface="Century Gothic"/>
              </a:rPr>
              <a:t>Use outside sources to SUPPORT your points.</a:t>
            </a: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  <a:p>
            <a:pPr marL="325800" indent="-259560">
              <a:lnSpc>
                <a:spcPct val="90000"/>
              </a:lnSpc>
              <a:spcBef>
                <a:spcPts val="876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5bd3"/>
                </a:solidFill>
                <a:latin typeface="Century Gothic"/>
              </a:rPr>
              <a:t>Keep your passion, but watch your writing.  </a:t>
            </a: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43" name="Picture 8" descr="http://www.illustrationsof.com/royalty-free-students-clipart-illustration-215425.jpg"/>
          <p:cNvPicPr/>
          <p:nvPr/>
        </p:nvPicPr>
        <p:blipFill>
          <a:blip r:embed="rId1"/>
          <a:srcRect l="0" t="13505" r="0" b="20996"/>
          <a:stretch/>
        </p:blipFill>
        <p:spPr>
          <a:xfrm>
            <a:off x="5867280" y="3733920"/>
            <a:ext cx="2659320" cy="1828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1" descr="http://www.clipartbest.com/cliparts/ndc/8kX/ndc8kXpTe.jpeg"/>
          <p:cNvPicPr/>
          <p:nvPr/>
        </p:nvPicPr>
        <p:blipFill>
          <a:blip r:embed="rId2"/>
          <a:stretch/>
        </p:blipFill>
        <p:spPr>
          <a:xfrm>
            <a:off x="5791320" y="1495440"/>
            <a:ext cx="281916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Rules of Formal Writing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Do not use CONTRACTIONS</a:t>
            </a: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Ca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Can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Wo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Will 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Do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Do 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Could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Could 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They’re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They are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Etc.</a:t>
            </a:r>
            <a:br>
              <a:rPr sz="1800"/>
            </a:br>
            <a:r>
              <a:rPr b="1" lang="en-US" sz="1800" spc="-1" strike="noStrike">
                <a:solidFill>
                  <a:srgbClr val="666666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bd3"/>
                </a:solidFill>
                <a:latin typeface="Century Gothic"/>
              </a:rPr>
              <a:t>This will eliminate silly mistakes in using the wrong word.  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47" name="Picture 8" descr="http://languagearts.k12flash.com/contractions.gif"/>
          <p:cNvPicPr/>
          <p:nvPr/>
        </p:nvPicPr>
        <p:blipFill>
          <a:blip r:embed="rId1"/>
          <a:stretch/>
        </p:blipFill>
        <p:spPr>
          <a:xfrm>
            <a:off x="5257800" y="2209680"/>
            <a:ext cx="3282840" cy="275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Rules of Formal Writing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Be CONCRETE with your ideas</a:t>
            </a: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Avoid Abbreviations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bd3"/>
                </a:solidFill>
                <a:latin typeface="Century Gothic"/>
              </a:rPr>
              <a:t>TV = Television</a:t>
            </a:r>
            <a:endParaRPr b="0" lang="en-US" sz="28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bd3"/>
                </a:solidFill>
                <a:latin typeface="Century Gothic"/>
              </a:rPr>
              <a:t>CT = Connecticut</a:t>
            </a:r>
            <a:br>
              <a:rPr sz="2800"/>
            </a:br>
            <a:r>
              <a:rPr b="1" lang="en-US" sz="28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Avoid using words like “things”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bd3"/>
                </a:solidFill>
                <a:latin typeface="Century Gothic"/>
              </a:rPr>
              <a:t>Do not use these phrases because they are over used and vague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50" name="Picture 2" descr="http://myschoolclipart.com/1024/clip-art-of-a-yellow-pencil-mascot-cartoon-character-with-a-bright-idea-by-toons4biz-233.jpg"/>
          <p:cNvPicPr/>
          <p:nvPr/>
        </p:nvPicPr>
        <p:blipFill>
          <a:blip r:embed="rId1"/>
          <a:srcRect l="19970" t="0" r="21306" b="0"/>
          <a:stretch/>
        </p:blipFill>
        <p:spPr>
          <a:xfrm>
            <a:off x="6781680" y="13716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http://images.clipartof.com/small/1094106-Clipart-School-Boy-Writing-An-Essay-Royalty-Free-Vector-Illustration.jpg"/>
          <p:cNvPicPr/>
          <p:nvPr/>
        </p:nvPicPr>
        <p:blipFill>
          <a:blip r:embed="rId2"/>
          <a:srcRect l="0" t="0" r="0" b="5128"/>
          <a:stretch/>
        </p:blipFill>
        <p:spPr>
          <a:xfrm>
            <a:off x="861840" y="5170320"/>
            <a:ext cx="1424160" cy="13068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Use Outside Sources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Always know what you are talking abou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Research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Be informativ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Be concis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54" name="Picture 8" descr="http://www.clker.com/cliparts/F/P/m/v/c/F/internet-hi.png"/>
          <p:cNvPicPr/>
          <p:nvPr/>
        </p:nvPicPr>
        <p:blipFill>
          <a:blip r:embed="rId1"/>
          <a:stretch/>
        </p:blipFill>
        <p:spPr>
          <a:xfrm>
            <a:off x="4800600" y="1676520"/>
            <a:ext cx="1943280" cy="1803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http://www.illustrationsof.com/royalty-free-books-clipart-illustration-217176.jpg"/>
          <p:cNvPicPr/>
          <p:nvPr/>
        </p:nvPicPr>
        <p:blipFill>
          <a:blip r:embed="rId2"/>
          <a:srcRect l="0" t="0" r="0" b="4819"/>
          <a:stretch/>
        </p:blipFill>
        <p:spPr>
          <a:xfrm>
            <a:off x="6553080" y="3124080"/>
            <a:ext cx="1752840" cy="1751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http://image.shutterstock.com/display_pic_with_logo/602218/118069294/stock-vector-newspaper-retro-clipart-illustration-118069294.jpg"/>
          <p:cNvPicPr/>
          <p:nvPr/>
        </p:nvPicPr>
        <p:blipFill>
          <a:blip r:embed="rId3"/>
          <a:srcRect l="0" t="8424" r="0" b="18029"/>
          <a:stretch/>
        </p:blipFill>
        <p:spPr>
          <a:xfrm>
            <a:off x="3962520" y="3809880"/>
            <a:ext cx="2314440" cy="1438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http://images.clipartpanda.com/pencil-clipart-pencil2.png"/>
          <p:cNvPicPr/>
          <p:nvPr/>
        </p:nvPicPr>
        <p:blipFill>
          <a:blip r:embed="rId4"/>
          <a:stretch/>
        </p:blipFill>
        <p:spPr>
          <a:xfrm>
            <a:off x="6016680" y="5029200"/>
            <a:ext cx="1454040" cy="14540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2:44:51Z</dcterms:created>
  <dc:creator>J Lail</dc:creator>
  <dc:description/>
  <dc:language>en-US</dc:language>
  <cp:lastModifiedBy>Shettle, Meghan</cp:lastModifiedBy>
  <dcterms:modified xsi:type="dcterms:W3CDTF">2014-12-16T13:34:07Z</dcterms:modified>
  <cp:revision>20</cp:revision>
  <dc:subject/>
  <dc:title>Rules of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